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172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5E3A-E73A-4470-98D8-69CCCD9C0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ED1C-7AC6-464D-A1D6-04D98604F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D8CC-0D28-4877-923F-EE635429D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442D-F70F-4567-9C7E-77755C2AC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7B4E-3CD2-46C1-9447-BA0DE4724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0FDE-B972-4EFE-845A-D8D0828F4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7920-1EFA-4ACB-9CF1-1098776CA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83C0-629B-42A1-9DD6-DFBAE64C0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AF7-CF48-4D53-A3EE-30FE5E55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285-4F7C-49F1-B7A5-11BBA39C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2CE-8276-4F06-8513-D18C4584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75D-A831-40A8-A962-BA31ED39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FCE-8857-4D06-992A-FD07BD43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57B-C286-4B36-8D36-6C4BFC8B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3C9-027A-4690-A9BF-84C37375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D3C-25B4-443D-BC6D-463C7785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038-CF40-41A8-AAF2-11965AD7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033-C7D0-4C09-AA0E-1A034BE8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454-1028-44E4-971D-CEA6ABAF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CC9-B8DA-4FF5-9F62-31889B37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1208-F293-4E11-90EB-5D4E60B2BF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Relationship between agricultural biodiversity and dietary diversity of children aged 6-36 months in rural areas of Northern Ghana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 Mahama Saaka (P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DS, School of Allied Health Sciences- Ta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action term was statistically significant [β = -0.16 (95% CI: -0.21, -0.004, p = 0.042)] and this confirms that the relationship between production diversity and dietary diversity scores differs according to the socioeconomic status of the child’s househo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from households of high wealth index had mean dietary diversity score which was 0.06 standard units significantly higher than their counterparts from households of lower wealth index [β = 0.06 (95% CI: 0.04, 0.51)]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lusion and Recommend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udy provided evidence that increased agricultural biodiversity positively associated with dietary diversity of preschool children but this relationship was moderated by socioeconomic status of the child’s household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lusion and Recommend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refore recommended that the Ministry of Agriculture and related organizations should take steps to train/educate rural farmers on agricultural biodiversity especially the poor 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ationa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&amp;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a positive relationship between biodiversity and nutrition appears to be evident from a number of studies, more research is needed to better understand in which socio-ecological settings and contexts do biodiversity and nutritional and dietary outcomes relate and which factors mediate the relationsh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ationa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&amp;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aper investigated whether and how biodiversity contributes to diversified diets of children and how economic factors interact with biodiversity to mediate consumption of nutrient dense f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per is based on analysis of data which was collected in a base-line cross-sectional survey from 50 communities located in five districts of Norther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population comprised mothers/primary caregivers and their children who were selected using a two-stage cluster sampling proced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ary diversity was derived from a semi-quantitative 24-hour food recal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crop and livestock species produced on a farm was used as the measure of production diver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regression analysis was used to identify predictors and test for interac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tion analyses were used to assess whether socioeconomic status of the household mediates the link between agricultural biodiversity and dietary diversity of child’ di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s</a:t>
            </a:r>
            <a:br>
              <a:rPr sz="36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positive relationship between agricultural biodiversity (variety of animals kept and plants grown for food) and the diversity of child’s di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er children (24-36 months), high agricultural biodiversity, small household size and households of higher household wealth index were consistent predict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ongest predictor was child’s age with a standardized beta (β) weight of 0.45, p &lt; 0.001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cond highest contributor was production diversity with beta (β) weight of 0.25, p = 0.00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oeconomic status of the household did not mediate the link between agricultural biodiversity and dietary diversity of child’ diet. Rather, it interacted with agricultural biodiversity on dietary diversity of chi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30:10Z</dcterms:created>
  <dc:creator>Amy</dc:creator>
  <dc:description/>
  <dc:language>en-US</dc:language>
  <cp:lastModifiedBy>mahama Saaka</cp:lastModifiedBy>
  <dcterms:modified xsi:type="dcterms:W3CDTF">2016-12-12T11:57:53Z</dcterms:modified>
  <cp:revision>1464</cp:revision>
  <dc:subject/>
  <dc:title>Gastroenteritis at a University in Texas</dc:title>
</cp:coreProperties>
</file>